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CB6-5E15-4C70-87A6-D199D4FF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CFE-F096-44CA-A9B6-0F982544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31F-7D6F-4494-9BA2-2E1B6BA5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D6D-78C4-4295-900A-31FBFC83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FC2-FDB4-48C3-BE09-1EBAEFF6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476-AAA8-4CCC-BC04-9B3EE984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2B0-F7A0-4489-B5C0-F8570BC1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58C-680B-4D9E-973C-4C51BEC8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352-437E-4928-91B3-14152A64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A5A-2D07-4D66-8BBE-9B5099C8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300-4B74-4551-A778-41744EE2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4D0-C374-4A53-B7F4-9466CA0A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FC64-9F56-4FE1-BDB5-6C5549886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06560" y="1676160"/>
            <a:ext cx="7146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hear God singing to m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repeating)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838080" y="837720"/>
            <a:ext cx="731520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lbertus"/>
              </a:rPr>
              <a:t>I Hear God Si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1760" y="83808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hear God singing and rejo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I love my Father’s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hear God singing and he’s 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ryone should sing a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eous singing scares the d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let’s shout our anthems 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oldier choir in Holy conce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ices lifted faces b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1760" y="83808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or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hear God singing to m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her us and start a 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atter us we scatter 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ting Christ in every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our great crusade succ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ize us; we grow str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ll us and for sure we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our battle isn’t ear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our souls will never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1760" y="83808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or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hear God singing to m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hkeeuh moongoo akeeyeembah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omen ec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 God sing for Jesus’ sak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4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Chorus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22:18:36Z</dcterms:created>
  <dc:creator>Peter Rivezzo</dc:creator>
  <dc:description/>
  <dc:language>en-US</dc:language>
  <cp:lastModifiedBy>Peter Rivezzo</cp:lastModifiedBy>
  <dcterms:modified xsi:type="dcterms:W3CDTF">2010-02-13T22:18:36Z</dcterms:modified>
  <cp:revision>1</cp:revision>
  <dc:subject/>
  <dc:title>I Hear God Singing</dc:title>
</cp:coreProperties>
</file>